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D04F-8DC2-4F31-BD67-D37B64701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544E-7453-4E7B-B7D0-DBFEBFBBA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8A10-FDD1-4A0F-A307-A20BB85F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604C-2FCB-4D78-B42D-A6A03CF9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A76-8802-4E3D-8361-DB351EF1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A7D-6790-4333-9B01-80693B8A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4511-D760-4483-9DC3-4B2623C7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A191-325B-41A7-8A4D-9A82068E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32D7-CB90-4580-9D2A-E43B5657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4196-0019-46E0-82F9-2012FA7B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4EB5-5A8F-4A9F-8867-4AE84CFC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04B0-8D43-410E-A825-40242AC3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2747-E496-45F2-BF2B-8DD55D18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9A2-6320-4EE3-BA82-A95FB181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F407-C6A0-4F04-A220-B25C8424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4B20-4C7D-4C01-AA35-18384827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8B61-C817-4851-94FB-9BD08F9B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1E77-6AEC-4530-9E9D-8E137E19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FDC3-A560-4710-83C4-91B3F6B4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C7C6-10BD-4E72-BD04-61F97A8E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BE9-288C-4328-A0A4-514C0D16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D0D-E2FD-4A66-A78F-18688EC4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1C0A-E9AF-410B-8C07-8DD737C0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BB9-6D72-4E29-9088-1D5CB1AB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B76-474F-4D1C-9F37-F3EB951F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701-D5EE-4CBA-A9D7-7646B58B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mboo"/>
          <p:cNvPicPr/>
          <p:nvPr/>
        </p:nvPicPr>
        <p:blipFill>
          <a:blip r:embed="rId3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CA96-E60F-41E7-8CA7-04795AEE3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mboo"/>
          <p:cNvPicPr/>
          <p:nvPr/>
        </p:nvPicPr>
        <p:blipFill>
          <a:blip r:embed="rId3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467D-A5DD-45D5-99F9-B5304CCF4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982800"/>
            <a:ext cx="746748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Homework Bell Ring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ian Empire called the Gupta inven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at type of m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s represented by this im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Image result for algebra images"/>
          <p:cNvPicPr/>
          <p:nvPr/>
        </p:nvPicPr>
        <p:blipFill>
          <a:blip r:embed="rId1"/>
          <a:stretch/>
        </p:blipFill>
        <p:spPr>
          <a:xfrm>
            <a:off x="3505320" y="3314880"/>
            <a:ext cx="4610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0306M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2.bp.blogspot.com/_ieL3qUh9yBM/S1alZVqIUbI/AAAAAAAAAe4/o-Y5mMdvfPE/s400/edicts_asoka-227x300.jpg"/>
          <p:cNvPicPr/>
          <p:nvPr/>
        </p:nvPicPr>
        <p:blipFill>
          <a:blip r:embed="rId1"/>
          <a:stretch/>
        </p:blipFill>
        <p:spPr>
          <a:xfrm>
            <a:off x="542880" y="312840"/>
            <a:ext cx="2886120" cy="38098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"/>
          <p:cNvSpPr/>
          <p:nvPr/>
        </p:nvSpPr>
        <p:spPr>
          <a:xfrm>
            <a:off x="3814920" y="1676520"/>
            <a:ext cx="327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nify emp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reated system o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aws (Edicts of Ashok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protect sick, unarmed and helpless.  Provide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st sto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ravelers.  Built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spit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ircuit magistrates for resolving disputes throughout emp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http://upload.wikimedia.org/wikipedia/commons/8/80/GRE6-8.jpg"/>
          <p:cNvPicPr/>
          <p:nvPr/>
        </p:nvPicPr>
        <p:blipFill>
          <a:blip r:embed="rId2"/>
          <a:stretch/>
        </p:blipFill>
        <p:spPr>
          <a:xfrm>
            <a:off x="380880" y="4122720"/>
            <a:ext cx="3048120" cy="2562120"/>
          </a:xfrm>
          <a:prstGeom prst="rect">
            <a:avLst/>
          </a:prstGeom>
          <a:ln w="0">
            <a:noFill/>
          </a:ln>
        </p:spPr>
      </p:pic>
      <p:sp>
        <p:nvSpPr>
          <p:cNvPr id="132" name="5-Point Star 1"/>
          <p:cNvSpPr/>
          <p:nvPr/>
        </p:nvSpPr>
        <p:spPr>
          <a:xfrm>
            <a:off x="3581280" y="115920"/>
            <a:ext cx="1752840" cy="1143000"/>
          </a:xfrm>
          <a:custGeom>
            <a:avLst/>
            <a:gdLst/>
            <a:ahLst/>
            <a:rect l="l" t="t" r="r" b="b"/>
            <a:pathLst>
              <a:path w="1752600" h="1143000">
                <a:moveTo>
                  <a:pt x="2" y="436586"/>
                </a:moveTo>
                <a:lnTo>
                  <a:pt x="669437" y="436589"/>
                </a:lnTo>
                <a:lnTo>
                  <a:pt x="876300" y="0"/>
                </a:lnTo>
                <a:lnTo>
                  <a:pt x="1083163" y="436589"/>
                </a:lnTo>
                <a:lnTo>
                  <a:pt x="1752598" y="436586"/>
                </a:lnTo>
                <a:lnTo>
                  <a:pt x="1211011" y="706410"/>
                </a:lnTo>
                <a:lnTo>
                  <a:pt x="1417882" y="1142997"/>
                </a:lnTo>
                <a:lnTo>
                  <a:pt x="876300" y="873168"/>
                </a:lnTo>
                <a:lnTo>
                  <a:pt x="334718" y="1142997"/>
                </a:lnTo>
                <a:lnTo>
                  <a:pt x="541589" y="706410"/>
                </a:lnTo>
                <a:lnTo>
                  <a:pt x="2" y="436586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owards Collaps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 5. Decline of Mauryan Empire&lt;br /&gt;Economic crisis after Ashoka’s death&lt;br /&gt;High costs of bureaucracy, military not suppo..."/>
          <p:cNvPicPr/>
          <p:nvPr/>
        </p:nvPicPr>
        <p:blipFill>
          <a:blip r:embed="rId1"/>
          <a:stretch/>
        </p:blipFill>
        <p:spPr>
          <a:xfrm>
            <a:off x="-23760" y="-517680"/>
            <a:ext cx="9167760" cy="7086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-24120" y="5867280"/>
            <a:ext cx="93200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ligions are symptoms of collapse – Buddhism – he neglected 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eighbors did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Gupt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" y="304812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What defines a golden ag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076640" y="2819160"/>
            <a:ext cx="3695760" cy="3276360"/>
          </a:xfrm>
          <a:prstGeom prst="rect">
            <a:avLst/>
          </a:prstGeom>
          <a:ln w="0">
            <a:noFill/>
          </a:ln>
        </p:spPr>
      </p:pic>
      <p:pic>
        <p:nvPicPr>
          <p:cNvPr id="140" name="Rectangle 4" descr=""/>
          <p:cNvPicPr/>
          <p:nvPr/>
        </p:nvPicPr>
        <p:blipFill>
          <a:blip r:embed="rId2"/>
          <a:stretch/>
        </p:blipFill>
        <p:spPr>
          <a:xfrm>
            <a:off x="1206360" y="1371600"/>
            <a:ext cx="637704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60480"/>
            <a:ext cx="7467480" cy="131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Impact"/>
              </a:rPr>
              <a:t>Political – Gupta </a:t>
            </a:r>
            <a:r>
              <a:rPr b="0" lang="en-US" sz="3600" spc="-1" strike="noStrike">
                <a:solidFill>
                  <a:srgbClr val="003300"/>
                </a:solidFill>
                <a:latin typeface="Impact"/>
              </a:rPr>
              <a:t>(320 CE – 550 CE)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ritory than Mauryan – could not hold onto something that b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centralized power -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trol based on local lords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d tribute to keep aut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ous alliances and military conquests created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litical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pse - 450 CE northern invaders brought empire to slow end (sam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unas – White Hu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the Xiongnu Huns from Mongolia to Caucasus from N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5029200" y="1440000"/>
          <a:ext cx="424980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0000"/>
                    <a:ext cx="42498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7"/>
          <p:cNvSpPr/>
          <p:nvPr/>
        </p:nvSpPr>
        <p:spPr>
          <a:xfrm>
            <a:off x="2552760" y="5911920"/>
            <a:ext cx="4419720" cy="94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olitical diversity and reg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Impact"/>
              </a:rPr>
              <a:t>Economic - Gupt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f5f5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vigorous trade – surpassing Mediterranean and Chinese – major middle men between East and West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f5f5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tton was largest industry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southern India there were small colonies of Romans, Jews, Arabs, and Nestorian Christians from Syria and Persia (gold, slaves, glass, Egyptian cloth, Chinese silk, SE Asian spic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3200400" y="3505320"/>
            <a:ext cx="5486040" cy="3579120"/>
            <a:chOff x="3200400" y="3505320"/>
            <a:chExt cx="5486040" cy="3579120"/>
          </a:xfrm>
        </p:grpSpPr>
        <p:pic>
          <p:nvPicPr>
            <p:cNvPr id="149" name="Picture 5" descr=""/>
            <p:cNvPicPr/>
            <p:nvPr/>
          </p:nvPicPr>
          <p:blipFill>
            <a:blip r:embed="rId1"/>
            <a:stretch/>
          </p:blipFill>
          <p:spPr>
            <a:xfrm>
              <a:off x="3308040" y="3505320"/>
              <a:ext cx="5378400" cy="345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6"/>
            <p:cNvSpPr/>
            <p:nvPr/>
          </p:nvSpPr>
          <p:spPr>
            <a:xfrm rot="16200000">
              <a:off x="1973520" y="5542920"/>
              <a:ext cx="27680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©2004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dsworth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, a division of Thomson Learning, Inc.  Thomson Learning</a:t>
              </a:r>
              <a:r>
                <a:rPr b="0" lang="en-US" sz="600" spc="-1" strike="noStrike" baseline="-25000">
                  <a:solidFill>
                    <a:srgbClr val="000000"/>
                  </a:solidFill>
                  <a:latin typeface="Times New Roman"/>
                </a:rPr>
                <a:t>™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is a trademark used herein under license.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7"/>
          <p:cNvSpPr/>
          <p:nvPr/>
        </p:nvSpPr>
        <p:spPr>
          <a:xfrm>
            <a:off x="457200" y="3962520"/>
            <a:ext cx="1981080" cy="1557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erchants relatively high caste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Impact"/>
              </a:rPr>
              <a:t>Religious - Gupt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duism restored as central 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ed keep social order in a time of decentralized political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Impact"/>
              </a:rPr>
              <a:t>Social - Gupt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yalty to caste superseded loyalty to any one rul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Suddra and Outcastes  - slavery was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s of women became more limited as agricultural technology developed (one code of law requested women to worship husbands as g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33520" y="5307120"/>
            <a:ext cx="8305560" cy="1191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ey Idea:  all classical societies (except perhaps Athenian) played down role of individual and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emphasized role of stat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group and family – few challenged this “natural ord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-289800"/>
            <a:ext cx="83818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Impact"/>
              </a:rPr>
              <a:t>Intellectual/Technological - Gupt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nivers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ilt (4000 students in Nalanda – one of them Chinese Faxian) to teach religion, medicine and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edic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ligious prohibition on dissection – but still bone setting, plastic surgery, inoculation against small pox, sterilization of wou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3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thematics - algebra, ze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y have come from China)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i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stem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Arabic” nu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able of sines, square roots, negative numbers, compute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alue of p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057400" y="5334120"/>
            <a:ext cx="53341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ome technology developed for its own s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5-Point Star 1"/>
          <p:cNvSpPr/>
          <p:nvPr/>
        </p:nvSpPr>
        <p:spPr>
          <a:xfrm>
            <a:off x="0" y="3581280"/>
            <a:ext cx="685800" cy="685800"/>
          </a:xfrm>
          <a:custGeom>
            <a:avLst/>
            <a:gdLst/>
            <a:ahLst/>
            <a:rect l="l" t="t" r="r" b="b"/>
            <a:pathLst>
              <a:path w="685800" h="685800">
                <a:moveTo>
                  <a:pt x="1" y="261952"/>
                </a:moveTo>
                <a:lnTo>
                  <a:pt x="261954" y="261953"/>
                </a:lnTo>
                <a:lnTo>
                  <a:pt x="342900" y="0"/>
                </a:lnTo>
                <a:lnTo>
                  <a:pt x="423846" y="261953"/>
                </a:lnTo>
                <a:lnTo>
                  <a:pt x="685799" y="261952"/>
                </a:lnTo>
                <a:lnTo>
                  <a:pt x="473874" y="423846"/>
                </a:lnTo>
                <a:lnTo>
                  <a:pt x="554823" y="685798"/>
                </a:lnTo>
                <a:lnTo>
                  <a:pt x="342900" y="523901"/>
                </a:lnTo>
                <a:lnTo>
                  <a:pt x="130977" y="685798"/>
                </a:lnTo>
                <a:lnTo>
                  <a:pt x="211926" y="423846"/>
                </a:lnTo>
                <a:lnTo>
                  <a:pt x="1" y="261952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Impact"/>
              </a:rPr>
              <a:t>Art/Literature - Gupt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24382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quisite paintings (rock cut caves at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janta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ous for Buddhist 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s of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alidas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mparable to Shakespe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The Ajanta Caves"/>
          <p:cNvPicPr/>
          <p:nvPr/>
        </p:nvPicPr>
        <p:blipFill>
          <a:blip r:embed="rId1"/>
          <a:stretch/>
        </p:blipFill>
        <p:spPr>
          <a:xfrm>
            <a:off x="5105520" y="0"/>
            <a:ext cx="4002120" cy="3008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Ajanta and Ellora Caves Tours to India"/>
          <p:cNvPicPr/>
          <p:nvPr/>
        </p:nvPicPr>
        <p:blipFill>
          <a:blip r:embed="rId2"/>
          <a:stretch/>
        </p:blipFill>
        <p:spPr>
          <a:xfrm>
            <a:off x="5105520" y="2232000"/>
            <a:ext cx="40021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467840" cy="357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Bauhaus 93"/>
              </a:rPr>
              <a:t>Classical India</a:t>
            </a:r>
            <a:br>
              <a:rPr sz="6600"/>
            </a:br>
            <a:r>
              <a:rPr b="0" i="1" lang="en-US" sz="3600" spc="-1" strike="noStrike">
                <a:solidFill>
                  <a:srgbClr val="003300"/>
                </a:solidFill>
                <a:latin typeface="Arial Black"/>
              </a:rPr>
              <a:t>“Age of Empires”</a:t>
            </a: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Mauryan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Gupt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110880"/>
            <a:ext cx="406404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Pre-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cal </a:t>
            </a: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– </a:t>
            </a:r>
            <a:br>
              <a:rPr sz="3600"/>
            </a:b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Harappan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33600"/>
            <a:ext cx="3886200" cy="53337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Ind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Mohenjo-Dar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urban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tra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th Mesopotami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Strong Central Author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als, weights/meas., irrigation, theocrac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ocial Structu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relatively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galitari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ow decline – natural?, erosion?, salt in w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ryan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e in 1500 BC (rajahs, Sanskrit, iron) – some argue inva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09"/>
          <p:cNvPicPr/>
          <p:nvPr/>
        </p:nvPicPr>
        <p:blipFill>
          <a:blip r:embed="rId1"/>
          <a:stretch/>
        </p:blipFill>
        <p:spPr>
          <a:xfrm>
            <a:off x="4529160" y="3786120"/>
            <a:ext cx="4614840" cy="3081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Image result for map of indus river"/>
          <p:cNvPicPr/>
          <p:nvPr/>
        </p:nvPicPr>
        <p:blipFill>
          <a:blip r:embed="rId2"/>
          <a:stretch/>
        </p:blipFill>
        <p:spPr>
          <a:xfrm>
            <a:off x="4529160" y="111240"/>
            <a:ext cx="461484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46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ryan (Vedic Age)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indu Text - Rigve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cribes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w dwellings as small hu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wellings clustered inside wooden palisades – suffers in comparison with Mohenjo-Daro during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gve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ggests “Aryans” were light-skinned  favored over “dark-skinned” natives (their varna in caste)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prejudice in skin color still exists in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induism and sanskr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roduced – see constant upheavals in early centuries, possibly because onl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shatriy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arrior caste) could f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5076720" y="2057400"/>
          <a:ext cx="40672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2057400"/>
                    <a:ext cx="40672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On the Road to Empir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038480" cy="5638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-nomadic Aryans – by 600 BC divide into 16 states, enslaved Dravidians; some civil wars betwee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ajah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i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 BC becomes part of a Persian Empi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30-321 Alexander the Great of Greece conquers  and makes it part of his Hellenistic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1"/>
          <p:cNvSpPr/>
          <p:nvPr/>
        </p:nvSpPr>
        <p:spPr>
          <a:xfrm>
            <a:off x="4809960" y="990720"/>
            <a:ext cx="2819520" cy="1981080"/>
          </a:xfrm>
          <a:prstGeom prst="wedgeRoundRectCallout">
            <a:avLst>
              <a:gd name="adj1" fmla="val -64939"/>
              <a:gd name="adj2" fmla="val -23810"/>
              <a:gd name="adj3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ey Concep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at it i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li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ragmen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  Thin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y 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ould cause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Geographic map of India"/>
          <p:cNvPicPr/>
          <p:nvPr/>
        </p:nvPicPr>
        <p:blipFill>
          <a:blip r:embed="rId1"/>
          <a:stretch/>
        </p:blipFill>
        <p:spPr>
          <a:xfrm>
            <a:off x="4648320" y="3200400"/>
            <a:ext cx="35082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06000"/>
            <a:ext cx="746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auryan Empire</a:t>
            </a: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321-185 BC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Chandragupt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Maurya (321 BC) attacked Hellenistic rule, ended conflict by marrying the Hellenistic ruler’s daugh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www.cultureheritageofmyindia.com/wp-content/uploads/2012/01/mauryan-map.gif"/>
          <p:cNvPicPr/>
          <p:nvPr/>
        </p:nvPicPr>
        <p:blipFill>
          <a:blip r:embed="rId1"/>
          <a:stretch/>
        </p:blipFill>
        <p:spPr>
          <a:xfrm>
            <a:off x="4114800" y="2209680"/>
            <a:ext cx="4040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51280" y="228240"/>
            <a:ext cx="4952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100"/>
                </a:solidFill>
                <a:latin typeface="Arial Black"/>
              </a:rPr>
              <a:t>Chandragupt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81080" y="1218960"/>
            <a:ext cx="46479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– highly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po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yrant) but substantial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ureaucra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nspected with s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rm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/1000s of chariots and elephant-borne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ed used for public works but also luxury lifestyle, single 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red assassination -  only 4 ½ hours of sleep a day, changed bedroom daily, had food tasters, route of progress marked off with ropes – anyone who set foot inside would be 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613613w"/>
          <p:cNvPicPr/>
          <p:nvPr/>
        </p:nvPicPr>
        <p:blipFill>
          <a:blip r:embed="rId1"/>
          <a:stretch/>
        </p:blipFill>
        <p:spPr>
          <a:xfrm>
            <a:off x="152280" y="152280"/>
            <a:ext cx="2619360" cy="3857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http://greetingindia.tripod.com/maurya.jpg"/>
          <p:cNvPicPr/>
          <p:nvPr/>
        </p:nvPicPr>
        <p:blipFill>
          <a:blip r:embed="rId2"/>
          <a:stretch/>
        </p:blipFill>
        <p:spPr>
          <a:xfrm>
            <a:off x="228600" y="4419720"/>
            <a:ext cx="268596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306000"/>
            <a:ext cx="746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handragupta’s Relig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ed from hinduism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aini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xtreme passiveness) – would not kill anything or possess property – ended up starving himself to death in jainist monastery in 297 B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hand"/>
          <p:cNvPicPr/>
          <p:nvPr/>
        </p:nvPicPr>
        <p:blipFill>
          <a:blip r:embed="rId1"/>
          <a:stretch/>
        </p:blipFill>
        <p:spPr>
          <a:xfrm>
            <a:off x="4648320" y="1828800"/>
            <a:ext cx="1962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3"/>
          <p:cNvGrpSpPr/>
          <p:nvPr/>
        </p:nvGrpSpPr>
        <p:grpSpPr>
          <a:xfrm>
            <a:off x="4586400" y="1295280"/>
            <a:ext cx="4557600" cy="5354640"/>
            <a:chOff x="4586400" y="1295280"/>
            <a:chExt cx="4557600" cy="5354640"/>
          </a:xfrm>
        </p:grpSpPr>
        <p:pic>
          <p:nvPicPr>
            <p:cNvPr id="120" name="Picture 4" descr=""/>
            <p:cNvPicPr/>
            <p:nvPr/>
          </p:nvPicPr>
          <p:blipFill>
            <a:blip r:embed="rId1"/>
            <a:stretch/>
          </p:blipFill>
          <p:spPr>
            <a:xfrm>
              <a:off x="4738680" y="1295280"/>
              <a:ext cx="440532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5"/>
            <p:cNvSpPr/>
            <p:nvPr/>
          </p:nvSpPr>
          <p:spPr>
            <a:xfrm rot="16200000">
              <a:off x="2411280" y="4251600"/>
              <a:ext cx="457344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©2004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dsworth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, a division of Thomson Learning, Inc.  Thomson Learning</a:t>
              </a:r>
              <a:r>
                <a:rPr b="0" lang="en-US" sz="600" spc="-1" strike="noStrike" baseline="-25000">
                  <a:solidFill>
                    <a:srgbClr val="000000"/>
                  </a:solidFill>
                  <a:latin typeface="Times New Roman"/>
                </a:rPr>
                <a:t>™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is a trademark used herein under license.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6"/>
          <p:cNvSpPr/>
          <p:nvPr/>
        </p:nvSpPr>
        <p:spPr>
          <a:xfrm>
            <a:off x="228600" y="1313640"/>
            <a:ext cx="4419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ddhist after Battle of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Kaling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great stone builder (first since Harappa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 with 4 lions in used as emblem of present government of Ind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t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missionar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s far as Egypt and Burma and Sri Lanka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change in Buddhism is that h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jects cas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ystem which will make him popular with lower cast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0" y="1494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Ashoka</a:t>
            </a:r>
            <a:br>
              <a:rPr sz="2400"/>
            </a:b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(269-232 B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asokapillar"/>
          <p:cNvPicPr/>
          <p:nvPr/>
        </p:nvPicPr>
        <p:blipFill>
          <a:blip r:embed="rId2"/>
          <a:stretch/>
        </p:blipFill>
        <p:spPr>
          <a:xfrm>
            <a:off x="4800600" y="-228600"/>
            <a:ext cx="4467240" cy="7315200"/>
          </a:xfrm>
          <a:prstGeom prst="rect">
            <a:avLst/>
          </a:prstGeom>
          <a:ln w="0">
            <a:noFill/>
          </a:ln>
        </p:spPr>
      </p:pic>
      <p:sp>
        <p:nvSpPr>
          <p:cNvPr id="125" name="5-Point Star 1"/>
          <p:cNvSpPr/>
          <p:nvPr/>
        </p:nvSpPr>
        <p:spPr>
          <a:xfrm>
            <a:off x="228600" y="361800"/>
            <a:ext cx="1143000" cy="933480"/>
          </a:xfrm>
          <a:custGeom>
            <a:avLst/>
            <a:gdLst/>
            <a:ahLst/>
            <a:rect l="l" t="t" r="r" b="b"/>
            <a:pathLst>
              <a:path w="1143000" h="933450">
                <a:moveTo>
                  <a:pt x="1" y="356545"/>
                </a:moveTo>
                <a:lnTo>
                  <a:pt x="436590" y="356548"/>
                </a:lnTo>
                <a:lnTo>
                  <a:pt x="571500" y="0"/>
                </a:lnTo>
                <a:lnTo>
                  <a:pt x="706410" y="356548"/>
                </a:lnTo>
                <a:lnTo>
                  <a:pt x="1142999" y="356545"/>
                </a:lnTo>
                <a:lnTo>
                  <a:pt x="789790" y="576901"/>
                </a:lnTo>
                <a:lnTo>
                  <a:pt x="924706" y="933448"/>
                </a:lnTo>
                <a:lnTo>
                  <a:pt x="571500" y="713087"/>
                </a:lnTo>
                <a:lnTo>
                  <a:pt x="218294" y="933448"/>
                </a:lnTo>
                <a:lnTo>
                  <a:pt x="353210" y="576901"/>
                </a:lnTo>
                <a:lnTo>
                  <a:pt x="1" y="35654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2T14:51:31Z</dcterms:created>
  <dc:creator>Anne Jean Lyons</dc:creator>
  <dc:description/>
  <dc:language>en-US</dc:language>
  <cp:lastModifiedBy>Windows User</cp:lastModifiedBy>
  <dcterms:modified xsi:type="dcterms:W3CDTF">2016-10-20T15:09:03Z</dcterms:modified>
  <cp:revision>92</cp:revision>
  <dc:subject/>
  <dc:title>PowerPoint Presentation</dc:title>
</cp:coreProperties>
</file>